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C52-3372-44B7-9E17-A34E9B2E04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3C7-B798-435A-85F7-A17D43B3A5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CCFE-9C19-45A1-B24A-66C9062802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D4B-A758-42F3-95DC-4EB0D21A2B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95D7-2244-4923-8DBD-E4BB9326FA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7549-BAC6-4694-BB31-5C7818F924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450-8199-4C73-B6C5-0061B859D6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46CF-353E-4326-B179-C5E3A52142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a camiseta, una chaqueta y unos pantal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os vaqueros, un jersey y una mochi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a falda vaquera, un jersey y unas bo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os vaqueros, una camiseta y unos zapat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os pantalones, una camisa y unos zapat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BE4-2F66-478C-9AD2-6702B7F1DB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hoto credi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David Bisbal, Bulería album ©ValeMusicSpainLtd / Jennifer López &amp; Ben Affleck ©ARRIVALS.oscarsacademy /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élope Cruz 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©Academy.HO-AMP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ad the following sentences and ask the pupils to say if each one is true or false. Answers appear on mousecl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David lleva unos vaqueros, una camisa y unos zapatos. Verdad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Jennifer lleva un vestido y unos zapatos y Ben lleva un traje, unos zapatos y una corbata. Verdad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Penélope lleva un patalón y una camiseta. Fal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1FE0-C5A5-4CA1-A0BD-508A0B4687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2D4-252D-40E2-9271-41734FD4E5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B085-434A-42D2-B37A-A81A9C2DC8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87B-4829-4C0C-8C39-34025300E3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750-C043-4DF4-A25A-E2834355CF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01A8-F12F-41AD-83AE-552A72EE74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94C-A2AA-43BA-B521-3BD81EC91D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2B3-EA34-4042-A78F-CE5446CA8E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248F-05E5-4401-A413-3A07F90C3D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DD5-3982-4D2B-9BDC-4F5ACAD8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E06-4CEF-4906-B86F-904BCAAA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7C0-809B-4A61-8405-EC785E74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471-B75E-4F62-8936-206B8A23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A46-7339-4487-89BC-A5672E76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716-2087-40D2-B646-2664C11C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B17-B6B1-4415-9028-CAC32839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33E-2E26-4C82-B68D-55A19011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1AD-0A21-482E-99D0-19084573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DDC-FA92-4588-94FC-384C4DA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F88-D3DC-40FC-9391-C2AF16AF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194-13C1-4174-A3AE-8C2EEA0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C32-05CF-4D6B-BAA3-3BD0DB5F2C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hegreenguy.typepad.com/thegreenguy/WindowsLiveWriter/MyquestforanethicalweddingsuitMissionImp_120CB/suit[3].jpg&amp;imgrefurl=http://thegreenguy.typepad.com/thegreenguy/2007/05/my_quest_for_an.html&amp;usg=__ZR48PcuIrl0h3S1VAM5UtJ0U6CE=&amp;h=480&amp;w=367&amp;sz=55&amp;hl=en&amp;start=1&amp;sig2=u2Ja3l_wZz0eAfhWtoSMnw&amp;um=1&amp;tbnid=dY_trjISXPP3wM:&amp;tbnh=129&amp;tbnw=99&amp;ei=fy6ZSbPXF4Hc0AXQmK3_CQ&amp;prev=/images?q=suit&amp;um=1&amp;hl=en&amp;rlz=1T4ACAW_enGB308GB308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0200" y="928800"/>
            <a:ext cx="4143600" cy="40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os pantalones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amis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amiset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fald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 vest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orbata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haquet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os zap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os calcetines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le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571840" y="928800"/>
            <a:ext cx="4143240" cy="40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 w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ki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tro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sh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s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hi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jum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t-shi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71720" y="471492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 go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z.about.com/d/accessories/1/0/E/1/-/-/pink-diva-cap.jpg"/>
          <p:cNvPicPr/>
          <p:nvPr/>
        </p:nvPicPr>
        <p:blipFill>
          <a:blip r:embed="rId1"/>
          <a:stretch/>
        </p:blipFill>
        <p:spPr>
          <a:xfrm>
            <a:off x="1071720" y="0"/>
            <a:ext cx="5857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71720" y="471492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os pantalones cor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www.stpaulrealestateblog.com/st_paul_real_estate/images/2007/08/15/shorts.jpg"/>
          <p:cNvPicPr/>
          <p:nvPr/>
        </p:nvPicPr>
        <p:blipFill>
          <a:blip r:embed="rId1"/>
          <a:stretch/>
        </p:blipFill>
        <p:spPr>
          <a:xfrm>
            <a:off x="2357280" y="642960"/>
            <a:ext cx="3929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71720" y="471492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os guan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ww.nexternal.com/armynavy/images/Foliage-mechanics-glove1.gif"/>
          <p:cNvPicPr/>
          <p:nvPr/>
        </p:nvPicPr>
        <p:blipFill>
          <a:blip r:embed="rId1"/>
          <a:stretch/>
        </p:blipFill>
        <p:spPr>
          <a:xfrm>
            <a:off x="2714760" y="571680"/>
            <a:ext cx="3500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nexternal.com/armynavy/images/Foliage-mechanics-glove1.gif"/>
          <p:cNvPicPr/>
          <p:nvPr/>
        </p:nvPicPr>
        <p:blipFill>
          <a:blip r:embed="rId1"/>
          <a:stretch/>
        </p:blipFill>
        <p:spPr>
          <a:xfrm>
            <a:off x="7000920" y="2786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stpaulrealestateblog.com/st_paul_real_estate/images/2007/08/15/shorts.jpg"/>
          <p:cNvPicPr/>
          <p:nvPr/>
        </p:nvPicPr>
        <p:blipFill>
          <a:blip r:embed="rId2"/>
          <a:stretch/>
        </p:blipFill>
        <p:spPr>
          <a:xfrm>
            <a:off x="4643280" y="2714760"/>
            <a:ext cx="214344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z.about.com/d/accessories/1/0/E/1/-/-/pink-diva-cap.jpg"/>
          <p:cNvPicPr/>
          <p:nvPr/>
        </p:nvPicPr>
        <p:blipFill>
          <a:blip r:embed="rId3"/>
          <a:stretch/>
        </p:blipFill>
        <p:spPr>
          <a:xfrm>
            <a:off x="2143080" y="2786040"/>
            <a:ext cx="2332080" cy="17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appserver.guernseyop.com/cart/images/scarf%20smlogo.jpg"/>
          <p:cNvPicPr/>
          <p:nvPr/>
        </p:nvPicPr>
        <p:blipFill>
          <a:blip r:embed="rId4"/>
          <a:stretch/>
        </p:blipFill>
        <p:spPr>
          <a:xfrm>
            <a:off x="571680" y="2786040"/>
            <a:ext cx="152064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box-clothing.co.uk/mens-1/footwear-3/trainers-26/lacoste-punched-leather-trainers-75490-5194_medium.jpg"/>
          <p:cNvPicPr/>
          <p:nvPr/>
        </p:nvPicPr>
        <p:blipFill>
          <a:blip r:embed="rId5"/>
          <a:stretch/>
        </p:blipFill>
        <p:spPr>
          <a:xfrm>
            <a:off x="7000920" y="5000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z.about.com/d/shoes/1/0/0/W/faux_fur_boots.jpg"/>
          <p:cNvPicPr/>
          <p:nvPr/>
        </p:nvPicPr>
        <p:blipFill>
          <a:blip r:embed="rId6"/>
          <a:stretch/>
        </p:blipFill>
        <p:spPr>
          <a:xfrm>
            <a:off x="4714920" y="642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germes-online.com/direct/dbimage/50196568/Jeans.jpg"/>
          <p:cNvPicPr/>
          <p:nvPr/>
        </p:nvPicPr>
        <p:blipFill>
          <a:blip r:embed="rId7"/>
          <a:stretch/>
        </p:blipFill>
        <p:spPr>
          <a:xfrm>
            <a:off x="2571840" y="5000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tbn1.google.com/images?q=tbn:dY_trjISXPP3wM:http://thegreenguy.typepad.com/thegreenguy/WindowsLiveWriter/MyquestforanethicalweddingsuitMissionImp_120CB/suit%255B3%255D.jpg"/>
          <p:cNvPicPr/>
          <p:nvPr/>
        </p:nvPicPr>
        <p:blipFill>
          <a:blip r:embed="rId8"/>
          <a:stretch/>
        </p:blipFill>
        <p:spPr>
          <a:xfrm>
            <a:off x="500040" y="428760"/>
            <a:ext cx="166860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modculture.typepad.com/photos/uncategorized/ps_military.jpg"/>
          <p:cNvPicPr/>
          <p:nvPr/>
        </p:nvPicPr>
        <p:blipFill>
          <a:blip r:embed="rId9"/>
          <a:stretch/>
        </p:blipFill>
        <p:spPr>
          <a:xfrm>
            <a:off x="2571840" y="4697280"/>
            <a:ext cx="171432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ntunez.es/images/imagesecom/redingtonhunter.jpg"/>
          <p:cNvPicPr/>
          <p:nvPr/>
        </p:nvPicPr>
        <p:blipFill>
          <a:blip r:embed="rId10"/>
          <a:stretch/>
        </p:blipFill>
        <p:spPr>
          <a:xfrm>
            <a:off x="4786200" y="4714920"/>
            <a:ext cx="16621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71680" y="0"/>
            <a:ext cx="800100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ás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(More clot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ra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abri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ver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chubasque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ain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s gua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s pantalones cort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s vaque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j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gor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ufan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c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s bot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s zapatillas de depor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use a dictionary to add further items of clothing to you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: it will have n before any item of clothing = NOUN + m / f if it does not end with o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ShockwaveFlash1"/>
          <p:cNvGraphicFramePr/>
          <p:nvPr/>
        </p:nvGraphicFramePr>
        <p:xfrm>
          <a:off x="108000" y="885960"/>
          <a:ext cx="888372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85960"/>
                    <a:ext cx="8883720" cy="52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©75_ARRIVALS_1156"/>
          <p:cNvPicPr/>
          <p:nvPr/>
        </p:nvPicPr>
        <p:blipFill>
          <a:blip r:embed="rId1"/>
          <a:stretch/>
        </p:blipFill>
        <p:spPr>
          <a:xfrm>
            <a:off x="3409920" y="1819440"/>
            <a:ext cx="2560680" cy="39290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Text Box 7"/>
          <p:cNvSpPr/>
          <p:nvPr/>
        </p:nvSpPr>
        <p:spPr>
          <a:xfrm>
            <a:off x="82440" y="84600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¿Verdadero o fal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PhotoBuleríacopy"/>
          <p:cNvPicPr/>
          <p:nvPr/>
        </p:nvPicPr>
        <p:blipFill>
          <a:blip r:embed="rId2"/>
          <a:stretch/>
        </p:blipFill>
        <p:spPr>
          <a:xfrm>
            <a:off x="351000" y="1555920"/>
            <a:ext cx="2268360" cy="33811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" name="Text Box 10"/>
          <p:cNvSpPr/>
          <p:nvPr/>
        </p:nvSpPr>
        <p:spPr>
          <a:xfrm>
            <a:off x="117360" y="4603680"/>
            <a:ext cx="11019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 flipV="1">
            <a:off x="671400" y="4279680"/>
            <a:ext cx="219240" cy="32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395360" y="3784680"/>
            <a:ext cx="1752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Verda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067200" y="5500800"/>
            <a:ext cx="15620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Jenn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238720" y="5005440"/>
            <a:ext cx="819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3662280" y="5176800"/>
            <a:ext cx="219240" cy="324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 flipV="1">
            <a:off x="5362560" y="4725720"/>
            <a:ext cx="209520" cy="285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8" descr="©77Academy_A2034"/>
          <p:cNvPicPr/>
          <p:nvPr/>
        </p:nvPicPr>
        <p:blipFill>
          <a:blip r:embed="rId3"/>
          <a:stretch/>
        </p:blipFill>
        <p:spPr>
          <a:xfrm>
            <a:off x="6423120" y="865080"/>
            <a:ext cx="2268360" cy="341496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6" name="Text Box 19"/>
          <p:cNvSpPr/>
          <p:nvPr/>
        </p:nvSpPr>
        <p:spPr>
          <a:xfrm>
            <a:off x="6743880" y="4108320"/>
            <a:ext cx="1711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Pené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V="1">
            <a:off x="7515360" y="3784320"/>
            <a:ext cx="0" cy="32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7610400" y="2914560"/>
            <a:ext cx="1324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F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4362480" y="3860640"/>
            <a:ext cx="1752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Verda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293760" y="1324080"/>
            <a:ext cx="377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330720" y="1571760"/>
            <a:ext cx="377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6365880" y="662040"/>
            <a:ext cx="3780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ShockwaveFlash1"/>
          <p:cNvGraphicFramePr/>
          <p:nvPr/>
        </p:nvGraphicFramePr>
        <p:xfrm>
          <a:off x="174600" y="819000"/>
          <a:ext cx="88930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819000"/>
                    <a:ext cx="8893080" cy="529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clo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0 item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isten to a series of people describing what they are w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 tra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tbn1.google.com/images?q=tbn:dY_trjISXPP3wM:http://thegreenguy.typepad.com/thegreenguy/WindowsLiveWriter/MyquestforanethicalweddingsuitMissionImp_120CB/suit%255B3%255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642960"/>
            <a:ext cx="314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 abr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odculture.typepad.com/photos/uncategorized/ps_military.jpg"/>
          <p:cNvPicPr/>
          <p:nvPr/>
        </p:nvPicPr>
        <p:blipFill>
          <a:blip r:embed="rId1"/>
          <a:stretch/>
        </p:blipFill>
        <p:spPr>
          <a:xfrm>
            <a:off x="2857680" y="500040"/>
            <a:ext cx="3429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 chubasqu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antunez.es/images/imagesecom/redingtonhunter.jpg"/>
          <p:cNvPicPr/>
          <p:nvPr/>
        </p:nvPicPr>
        <p:blipFill>
          <a:blip r:embed="rId1"/>
          <a:stretch/>
        </p:blipFill>
        <p:spPr>
          <a:xfrm>
            <a:off x="2571840" y="0"/>
            <a:ext cx="4419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os vaque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germes-online.com/direct/dbimage/50196568/Jeans.jpg"/>
          <p:cNvPicPr/>
          <p:nvPr/>
        </p:nvPicPr>
        <p:blipFill>
          <a:blip r:embed="rId1"/>
          <a:stretch/>
        </p:blipFill>
        <p:spPr>
          <a:xfrm>
            <a:off x="2143080" y="571680"/>
            <a:ext cx="4143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s bo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z.about.com/d/shoes/1/0/0/W/faux_fur_boots.jpg"/>
          <p:cNvPicPr/>
          <p:nvPr/>
        </p:nvPicPr>
        <p:blipFill>
          <a:blip r:embed="rId1"/>
          <a:stretch/>
        </p:blipFill>
        <p:spPr>
          <a:xfrm>
            <a:off x="2714760" y="1214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71720" y="471492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s zapatillas de depor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www.box-clothing.co.uk/mens-1/footwear-3/trainers-26/lacoste-punched-leather-trainers-75490-5194_medium.jpg"/>
          <p:cNvPicPr/>
          <p:nvPr/>
        </p:nvPicPr>
        <p:blipFill>
          <a:blip r:embed="rId1"/>
          <a:stretch/>
        </p:blipFill>
        <p:spPr>
          <a:xfrm>
            <a:off x="2714760" y="1071720"/>
            <a:ext cx="32954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71720" y="471492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 bufa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appserver.guernseyop.com/cart/images/scarf%20smlogo.jpg"/>
          <p:cNvPicPr/>
          <p:nvPr/>
        </p:nvPicPr>
        <p:blipFill>
          <a:blip r:embed="rId1"/>
          <a:stretch/>
        </p:blipFill>
        <p:spPr>
          <a:xfrm>
            <a:off x="2571840" y="0"/>
            <a:ext cx="4286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9:06:09Z</dcterms:created>
  <dc:creator>Chris</dc:creator>
  <dc:description/>
  <dc:language>en-US</dc:language>
  <cp:lastModifiedBy>Chris</cp:lastModifiedBy>
  <dcterms:modified xsi:type="dcterms:W3CDTF">2009-06-11T07:25:29Z</dcterms:modified>
  <cp:revision>4</cp:revision>
  <dc:subject/>
  <dc:title>Slide 1</dc:title>
</cp:coreProperties>
</file>